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6.jpeg" ContentType="image/jpeg"/>
  <Override PartName="/ppt/media/image36.jpeg" ContentType="image/jpeg"/>
  <Override PartName="/ppt/media/image37.jpeg" ContentType="image/jpeg"/>
  <Override PartName="/ppt/media/image50.jpeg" ContentType="image/jpeg"/>
  <Override PartName="/ppt/media/image44.jpeg" ContentType="image/jpeg"/>
  <Override PartName="/ppt/media/image49.jpeg" ContentType="image/jpeg"/>
  <Override PartName="/ppt/media/image20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48.jpeg" ContentType="image/jpeg"/>
  <Override PartName="/ppt/media/image53.png" ContentType="image/pn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381-DDED-4928-BB2D-FB991F61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F5D-FE64-4ED7-AEB2-BCC5BD24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260-7C11-4327-BD3C-17BB65DB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2FD-F9D8-453F-A50A-CA11AF52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C80D-D0D0-42A9-9DA9-B8A96771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5444-0F29-4E78-9225-58644C87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747A-1EC6-4BB0-8F39-D76AC8FB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DC97-FCB4-43C9-A806-4A4EA65E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19BA-3C5E-47A3-ABCA-B3DF8960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EDF4-565E-478F-AC47-A6D8D475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0A77-5A7A-43A7-A3C8-2473EB23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9FC-0A6F-4102-AF76-BD509BFE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1FF6-DF29-4133-AF72-0A5FD551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C2EB-381C-439C-A56D-43E90AB6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0B49-6715-4AA7-8666-BE6307A0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B5B8-1258-4DFC-8159-407118AC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58B2-A490-4373-AD3A-B49EBEE8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B92-8CE9-44AC-B2C9-8847D7F6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0E0-624E-4ACA-9EFE-3B0C162F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5C1-D52B-4DBD-8657-51C6540B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9D6-44A3-4D6D-B794-C1B58547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554-580D-4801-8AF7-E22F0F76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D39-4CB6-4F36-809B-202C862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2DA-5B04-4F6D-93D0-332B4ECB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65B3-95B9-4C44-8EA6-A19B42E15612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A3A4-FC56-4017-8FB4-AAE091260C9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68BB-481F-4454-9FE3-66D74A113D73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5B62-ED24-4D21-B72B-D912461E623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rip-guide.ru/zk.htm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myppc.ru/uploads/posts/myppc.ru-1258536023_zhukov_maxi.jp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myppc.ru/uploads/posts/myppc.ru-1258536023_zhukov_maxi.jp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ashvest.ru/photos/06.05.2004/124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ashvest.ru/photos/06.05.2004/124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hyperlink" Target="http://skazka.ucoz.ru/_bl/2/76215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hyperlink" Target="http://skazka.ucoz.ru/_bl/2/76215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allthings.clan.su/Pix/ayvazovsky.jpg.jpg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www.ljplus.ru/img4/l/i/lizakelt/Troica-Rubleva.jpg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hyperlink" Target="http://img0.liveinternet.ru/images/attach/c/0/47/42/47042264_18.jpg" TargetMode="External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llthings.clan.su/Pix/ayvazovsky.jpg.j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g0.liveinternet.ru/images/attach/c/0/47/42/47042264_18.jpg" TargetMode="External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10"/>
          <p:cNvSpPr txBox="1"/>
          <p:nvPr/>
        </p:nvSpPr>
        <p:spPr>
          <a:xfrm>
            <a:off x="826920" y="333360"/>
            <a:ext cx="734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e4a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 - наша Родина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e4a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11" descr="Resize of Карта России"/>
          <p:cNvPicPr/>
          <p:nvPr/>
        </p:nvPicPr>
        <p:blipFill>
          <a:blip r:embed="rId1"/>
          <a:stretch/>
        </p:blipFill>
        <p:spPr>
          <a:xfrm>
            <a:off x="826920" y="1268280"/>
            <a:ext cx="7632720" cy="515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wbr"/>
          <p:cNvPicPr/>
          <p:nvPr/>
        </p:nvPicPr>
        <p:blipFill>
          <a:blip r:embed="rId2"/>
          <a:stretch/>
        </p:blipFill>
        <p:spPr>
          <a:xfrm>
            <a:off x="2340000" y="5850000"/>
            <a:ext cx="1512720" cy="100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3"/>
          <p:cNvSpPr txBox="1"/>
          <p:nvPr/>
        </p:nvSpPr>
        <p:spPr>
          <a:xfrm>
            <a:off x="755640" y="260280"/>
            <a:ext cx="734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 - наша Роди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intro.mpg" descr=""/>
          <p:cNvPicPr/>
          <p:nvPr/>
        </p:nvPicPr>
        <p:blipFill>
          <a:blip r:embed="rId3"/>
          <a:stretch/>
        </p:blipFill>
        <p:spPr>
          <a:xfrm>
            <a:off x="8459640" y="6345360"/>
            <a:ext cx="684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6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2">
                                  <p:stCondLst>
                                    <p:cond delay="20000"/>
                                  </p:stCondLst>
                                  <p:childTnLst>
                                    <p:cmd type="call" cmd="togglePause">
                                      <p:cBhvr>
                                        <p:cTn id="8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5"/>
          <p:cNvSpPr txBox="1"/>
          <p:nvPr/>
        </p:nvSpPr>
        <p:spPr>
          <a:xfrm>
            <a:off x="1835280" y="1125360"/>
            <a:ext cx="39589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Гимн РФ"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14240" y="1643040"/>
            <a:ext cx="5572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Россия — священная наша держав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Россия — любимая наша стра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Могучая воля, великая слава —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Твое достоянье на все времен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пев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лавься, Отечество наше свободно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ратских народов союз веково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Предками данная мудрость народная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лавься, страна! Мы гордимся тобой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От южных морей до полярного кр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Раскинулись наши леса и пол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Одна ты на свете! Одна ты такая —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Хранимая Богом родная земл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Широкий простор для мечты и для жиз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Грядущие нам открывают г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Нам силу дает наша верность Отчизн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Так было, так есть и так будет всегд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250920" y="189000"/>
            <a:ext cx="102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001 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940360" y="17002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f01"/>
                </a:solidFill>
                <a:latin typeface="Times New Roman"/>
              </a:rPr>
              <a:t>Муз. А.Александр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f01"/>
                </a:solidFill>
                <a:latin typeface="Times New Roman"/>
              </a:rPr>
              <a:t>Слова С.Михалков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763640" y="189000"/>
            <a:ext cx="59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История гимн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gimn_-_gimn_rossii_so_slovami_(zaycev.net).mp3" descr=""/>
          <p:cNvPicPr/>
          <p:nvPr/>
        </p:nvPicPr>
        <p:blipFill>
          <a:blip r:embed="rId3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30962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-316800"/>
            <a:ext cx="8678880" cy="72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Россия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                                      </a:t>
            </a: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Родина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Столица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Президент-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выборный глава государ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Государственные символы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Культурные традиции – богатство нашей многонациональной страны</a:t>
            </a:r>
            <a:r>
              <a:rPr b="0" lang="ru-RU" sz="2000" spc="-1" strike="noStrike">
                <a:solidFill>
                  <a:srgbClr val="cc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6" descr="wbr"/>
          <p:cNvPicPr/>
          <p:nvPr/>
        </p:nvPicPr>
        <p:blipFill>
          <a:blip r:embed="rId1"/>
          <a:stretch/>
        </p:blipFill>
        <p:spPr>
          <a:xfrm>
            <a:off x="5929200" y="4357800"/>
            <a:ext cx="1366920" cy="911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rusgerb3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858080" y="4357800"/>
            <a:ext cx="781200" cy="9349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56" name="Picture 8" descr="ppic20_2"/>
          <p:cNvPicPr/>
          <p:nvPr/>
        </p:nvPicPr>
        <p:blipFill>
          <a:blip r:embed="rId3"/>
          <a:stretch/>
        </p:blipFill>
        <p:spPr>
          <a:xfrm>
            <a:off x="2643120" y="1428840"/>
            <a:ext cx="113976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P49_36m"/>
          <p:cNvPicPr/>
          <p:nvPr/>
        </p:nvPicPr>
        <p:blipFill>
          <a:blip r:embed="rId4"/>
          <a:stretch/>
        </p:blipFill>
        <p:spPr>
          <a:xfrm>
            <a:off x="6500880" y="357120"/>
            <a:ext cx="2387520" cy="1785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Resize of Карта России"/>
          <p:cNvPicPr/>
          <p:nvPr/>
        </p:nvPicPr>
        <p:blipFill>
          <a:blip r:embed="rId5"/>
          <a:stretch/>
        </p:blipFill>
        <p:spPr>
          <a:xfrm>
            <a:off x="2214720" y="285840"/>
            <a:ext cx="1985760" cy="10713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8" descr="putin3.jpg"/>
          <p:cNvPicPr/>
          <p:nvPr/>
        </p:nvPicPr>
        <p:blipFill>
          <a:blip r:embed="rId6"/>
          <a:stretch/>
        </p:blipFill>
        <p:spPr>
          <a:xfrm>
            <a:off x="7358040" y="2428920"/>
            <a:ext cx="135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50920" y="356760"/>
            <a:ext cx="8642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врей и тувинец, бурят и удмурт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усский, татарин, башкир и якут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азных народов большая семья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этим гордиться должны мы,  друзь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оссией зовется общий наш дом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усть будет уютно каждому в нё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Любые трудности мы осилим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только в единстве сила Росси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Дата 3"/>
          <p:cNvSpPr/>
          <p:nvPr/>
        </p:nvSpPr>
        <p:spPr>
          <a:xfrm>
            <a:off x="457200" y="6215040"/>
            <a:ext cx="21337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009B-CBC8-42DB-9162-683DF1749DA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8" descr="фото | Олег Иванов | Оленевод Бельдые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997360"/>
            <a:ext cx="4175280" cy="363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На «Саянском кольце» можно услышать традиционную музыку народов России (фото Полина Устюжанина)"/>
          <p:cNvPicPr/>
          <p:nvPr/>
        </p:nvPicPr>
        <p:blipFill>
          <a:blip r:embed="rId3"/>
          <a:stretch/>
        </p:blipFill>
        <p:spPr>
          <a:xfrm>
            <a:off x="5587920" y="285840"/>
            <a:ext cx="3556080" cy="330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Documents and Settings\learning\Рабочий стол\Одежда\64[1].jpg"/>
          <p:cNvPicPr/>
          <p:nvPr/>
        </p:nvPicPr>
        <p:blipFill>
          <a:blip r:embed="rId4"/>
          <a:stretch/>
        </p:blipFill>
        <p:spPr>
          <a:xfrm>
            <a:off x="6215040" y="4071960"/>
            <a:ext cx="2928960" cy="2549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C:\Documents and Settings\learning\Рабочий стол\Одежда\gallery_76_7668[1].jpg"/>
          <p:cNvPicPr/>
          <p:nvPr/>
        </p:nvPicPr>
        <p:blipFill>
          <a:blip r:embed="rId5"/>
          <a:stretch/>
        </p:blipFill>
        <p:spPr>
          <a:xfrm>
            <a:off x="1000080" y="285840"/>
            <a:ext cx="350064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learning\Рабочий стол\Одежда\0_69a4_2f103836_XL[1].jpg"/>
          <p:cNvPicPr/>
          <p:nvPr/>
        </p:nvPicPr>
        <p:blipFill>
          <a:blip r:embed="rId1"/>
          <a:stretch/>
        </p:blipFill>
        <p:spPr>
          <a:xfrm>
            <a:off x="214200" y="214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Documents and Settings\learning\Рабочий стол\Одежда\304_33[1].jpg"/>
          <p:cNvPicPr/>
          <p:nvPr/>
        </p:nvPicPr>
        <p:blipFill>
          <a:blip r:embed="rId2"/>
          <a:stretch/>
        </p:blipFill>
        <p:spPr>
          <a:xfrm>
            <a:off x="214200" y="3211560"/>
            <a:ext cx="2428920" cy="3646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learning\Рабочий стол\Одежда\304_35[1].jpg"/>
          <p:cNvPicPr/>
          <p:nvPr/>
        </p:nvPicPr>
        <p:blipFill>
          <a:blip r:embed="rId3"/>
          <a:stretch/>
        </p:blipFill>
        <p:spPr>
          <a:xfrm>
            <a:off x="6215040" y="214200"/>
            <a:ext cx="2714760" cy="4076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:\Documents and Settings\learning\Рабочий стол\Одежда\ce470e8b2221[1].jpg"/>
          <p:cNvPicPr/>
          <p:nvPr/>
        </p:nvPicPr>
        <p:blipFill>
          <a:blip r:embed="rId4"/>
          <a:stretch/>
        </p:blipFill>
        <p:spPr>
          <a:xfrm>
            <a:off x="4608360" y="3714840"/>
            <a:ext cx="4321440" cy="2882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C:\Documents and Settings\learning\Рабочий стол\Одежда\publication_2546_5425[1].jpg"/>
          <p:cNvPicPr/>
          <p:nvPr/>
        </p:nvPicPr>
        <p:blipFill>
          <a:blip r:embed="rId5"/>
          <a:stretch/>
        </p:blipFill>
        <p:spPr>
          <a:xfrm>
            <a:off x="2214720" y="3143160"/>
            <a:ext cx="2543040" cy="2855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Documents and Settings\learning\Рабочий стол\Одежда\imgB[1].jpg"/>
          <p:cNvPicPr/>
          <p:nvPr/>
        </p:nvPicPr>
        <p:blipFill>
          <a:blip r:embed="rId6"/>
          <a:stretch/>
        </p:blipFill>
        <p:spPr>
          <a:xfrm>
            <a:off x="4429080" y="571680"/>
            <a:ext cx="1746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Как называется страна, в которой мы жив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Кто является главой нашего государств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Покажите на карте Россию. Что вы можете сказать о ее территории, какие  народы живут  на территории России? Какие города вам известны? Назовите столицу Росс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Чем интересна и уникальна наша Родин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А где ты родил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826920" y="692280"/>
            <a:ext cx="741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ветим на вопросы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5"/>
          <p:cNvSpPr txBox="1"/>
          <p:nvPr/>
        </p:nvSpPr>
        <p:spPr>
          <a:xfrm>
            <a:off x="971640" y="549360"/>
            <a:ext cx="705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Monotype Corsiva"/>
              </a:rPr>
              <a:t>Словар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Родина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 – род, народ, родные, родители, рождение, родился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Россия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 – могущественное государ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Президент 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- выборный глава государ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Отечество - </a:t>
            </a:r>
            <a:r>
              <a:rPr b="1" lang="ru-RU" sz="2800" spc="-1" strike="noStrike">
                <a:solidFill>
                  <a:srgbClr val="cc0000"/>
                </a:solidFill>
                <a:latin typeface="Monotype Corsiva"/>
              </a:rPr>
              <a:t>обозначает страна предков (отцов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Ассоциограмма 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(ассоциация) – схема, в основе которой лежат ассоци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Патриот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- человек, преданный своему народу, Отечеств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Любовь – 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великое чув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Гордость – 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сильное чувство, которое испытывает патриот по отношению к своей Род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Культурные традиции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 – это богатство нашей многонациональной стра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826920" y="476280"/>
            <a:ext cx="7490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6" descr="16988-1"/>
          <p:cNvPicPr/>
          <p:nvPr/>
        </p:nvPicPr>
        <p:blipFill>
          <a:blip r:embed="rId3"/>
          <a:stretch/>
        </p:blipFill>
        <p:spPr>
          <a:xfrm>
            <a:off x="684360" y="2060640"/>
            <a:ext cx="2336760" cy="374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8" descr="i?id=20621596-06"/>
          <p:cNvPicPr/>
          <p:nvPr/>
        </p:nvPicPr>
        <p:blipFill>
          <a:blip r:embed="rId4"/>
          <a:stretch/>
        </p:blipFill>
        <p:spPr>
          <a:xfrm>
            <a:off x="6084720" y="2276640"/>
            <a:ext cx="2846520" cy="33350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10" descr="Картинка 3 из 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2205000"/>
            <a:ext cx="2500200" cy="3598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826920" y="476280"/>
            <a:ext cx="7490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6" descr="16988-1"/>
          <p:cNvPicPr/>
          <p:nvPr/>
        </p:nvPicPr>
        <p:blipFill>
          <a:blip r:embed="rId3"/>
          <a:stretch/>
        </p:blipFill>
        <p:spPr>
          <a:xfrm>
            <a:off x="250920" y="1197000"/>
            <a:ext cx="2643120" cy="4236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8" descr="i?id=20621596-06"/>
          <p:cNvPicPr/>
          <p:nvPr/>
        </p:nvPicPr>
        <p:blipFill>
          <a:blip r:embed="rId4"/>
          <a:stretch/>
        </p:blipFill>
        <p:spPr>
          <a:xfrm>
            <a:off x="6072120" y="1357200"/>
            <a:ext cx="2846520" cy="3335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10" descr="Картинка 3 из 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86080" y="1214280"/>
            <a:ext cx="250020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2"/>
          <p:cNvSpPr/>
          <p:nvPr/>
        </p:nvSpPr>
        <p:spPr>
          <a:xfrm>
            <a:off x="357120" y="54291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уворов Александр Василь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3357720" y="521496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Жуков Георгий Константино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6143760" y="50720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утузов Михаил Илларионо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75324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1" descr="Картинка 35 из 2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84280"/>
            <a:ext cx="2841480" cy="35085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2" descr="0_67ce_ff6857dc_XL"/>
          <p:cNvPicPr/>
          <p:nvPr/>
        </p:nvPicPr>
        <p:blipFill>
          <a:blip r:embed="rId3"/>
          <a:stretch/>
        </p:blipFill>
        <p:spPr>
          <a:xfrm>
            <a:off x="3571920" y="1500120"/>
            <a:ext cx="2403360" cy="3357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4" descr="126053078117977"/>
          <p:cNvPicPr/>
          <p:nvPr/>
        </p:nvPicPr>
        <p:blipFill>
          <a:blip r:embed="rId4"/>
          <a:stretch/>
        </p:blipFill>
        <p:spPr>
          <a:xfrm>
            <a:off x="6429240" y="1428840"/>
            <a:ext cx="2327400" cy="35002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ссия – наша Роди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7632720" cy="53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оссия –какое красивое слово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оса, и сила, и синее что-то…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гей Есен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1, стр. 4-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4" name="Picture 1" descr="Картинка 35 из 2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84280"/>
            <a:ext cx="2841480" cy="35085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2" descr="0_67ce_ff6857dc_XL"/>
          <p:cNvPicPr/>
          <p:nvPr/>
        </p:nvPicPr>
        <p:blipFill>
          <a:blip r:embed="rId3"/>
          <a:stretch/>
        </p:blipFill>
        <p:spPr>
          <a:xfrm>
            <a:off x="3571920" y="1500120"/>
            <a:ext cx="2403360" cy="3357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4" descr="126053078117977"/>
          <p:cNvPicPr/>
          <p:nvPr/>
        </p:nvPicPr>
        <p:blipFill>
          <a:blip r:embed="rId4"/>
          <a:stretch/>
        </p:blipFill>
        <p:spPr>
          <a:xfrm>
            <a:off x="6429240" y="1428840"/>
            <a:ext cx="2327400" cy="3500280"/>
          </a:xfrm>
          <a:prstGeom prst="rect">
            <a:avLst/>
          </a:prstGeom>
          <a:ln w="0">
            <a:noFill/>
          </a:ln>
        </p:spPr>
      </p:pic>
      <p:sp>
        <p:nvSpPr>
          <p:cNvPr id="209" name="Заголовок 1"/>
          <p:cNvSpPr/>
          <p:nvPr/>
        </p:nvSpPr>
        <p:spPr>
          <a:xfrm>
            <a:off x="6143760" y="5357880"/>
            <a:ext cx="2714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митри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лександрович Хворосто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Заголовок 1"/>
          <p:cNvSpPr/>
          <p:nvPr/>
        </p:nvSpPr>
        <p:spPr>
          <a:xfrm>
            <a:off x="3500280" y="5429160"/>
            <a:ext cx="2714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лександр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Николаевна Пахмут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684360" y="53006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ёт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льич Чайко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4" name="Picture 2" descr="astafev"/>
          <p:cNvPicPr/>
          <p:nvPr/>
        </p:nvPicPr>
        <p:blipFill>
          <a:blip r:embed="rId1"/>
          <a:stretch/>
        </p:blipFill>
        <p:spPr>
          <a:xfrm>
            <a:off x="6810480" y="1285920"/>
            <a:ext cx="2333520" cy="3149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180"/>
          <p:cNvPicPr/>
          <p:nvPr/>
        </p:nvPicPr>
        <p:blipFill>
          <a:blip r:embed="rId2"/>
          <a:stretch/>
        </p:blipFill>
        <p:spPr>
          <a:xfrm>
            <a:off x="500040" y="1285920"/>
            <a:ext cx="2428920" cy="3209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4" descr="Картинка 1 из 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1071720"/>
            <a:ext cx="2498400" cy="378612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3357720" y="5214960"/>
            <a:ext cx="314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2" descr="astafev"/>
          <p:cNvPicPr/>
          <p:nvPr/>
        </p:nvPicPr>
        <p:blipFill>
          <a:blip r:embed="rId1"/>
          <a:stretch/>
        </p:blipFill>
        <p:spPr>
          <a:xfrm>
            <a:off x="6810480" y="1285920"/>
            <a:ext cx="2333520" cy="3149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180"/>
          <p:cNvPicPr/>
          <p:nvPr/>
        </p:nvPicPr>
        <p:blipFill>
          <a:blip r:embed="rId2"/>
          <a:stretch/>
        </p:blipFill>
        <p:spPr>
          <a:xfrm>
            <a:off x="500040" y="1285920"/>
            <a:ext cx="2428920" cy="32097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4" descr="Картинка 1 из 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1071720"/>
            <a:ext cx="2498400" cy="378612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1"/>
          <p:cNvSpPr/>
          <p:nvPr/>
        </p:nvSpPr>
        <p:spPr>
          <a:xfrm>
            <a:off x="3357720" y="5214960"/>
            <a:ext cx="314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3571920" y="507204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амуил Яковлевич Марша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6500880" y="500076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Виктор Петрович Астафь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406080" y="5332320"/>
            <a:ext cx="25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гния Львовна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Барт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1209213057_avtoportret"/>
          <p:cNvPicPr/>
          <p:nvPr/>
        </p:nvPicPr>
        <p:blipFill>
          <a:blip r:embed="rId1"/>
          <a:stretch/>
        </p:blipFill>
        <p:spPr>
          <a:xfrm>
            <a:off x="6932520" y="333360"/>
            <a:ext cx="1841760" cy="2374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Картинка 9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500280"/>
            <a:ext cx="2236680" cy="3117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Картинка 36 из 44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3076560" cy="380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Андрей Рублев"/>
          <p:cNvPicPr/>
          <p:nvPr/>
        </p:nvPicPr>
        <p:blipFill>
          <a:blip r:embed="rId6"/>
          <a:stretch/>
        </p:blipFill>
        <p:spPr>
          <a:xfrm>
            <a:off x="539640" y="4005360"/>
            <a:ext cx="1905120" cy="2342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Картинка 6 из 5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16360" y="4076640"/>
            <a:ext cx="3565440" cy="2495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?id=22995519-06"/>
          <p:cNvPicPr/>
          <p:nvPr/>
        </p:nvPicPr>
        <p:blipFill>
          <a:blip r:embed="rId9"/>
          <a:stretch/>
        </p:blipFill>
        <p:spPr>
          <a:xfrm>
            <a:off x="3348000" y="907920"/>
            <a:ext cx="33004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7" descr="C:\Users\Егор\Desktop\surikov05.jpg"/>
          <p:cNvPicPr/>
          <p:nvPr/>
        </p:nvPicPr>
        <p:blipFill>
          <a:blip r:embed="rId1"/>
          <a:stretch/>
        </p:blipFill>
        <p:spPr>
          <a:xfrm>
            <a:off x="0" y="1773360"/>
            <a:ext cx="7186680" cy="37144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684360" y="566100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силий Иванович Суриков «Взятие снежного городк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1" descr="1209213057_avtoportret"/>
          <p:cNvPicPr/>
          <p:nvPr/>
        </p:nvPicPr>
        <p:blipFill>
          <a:blip r:embed="rId2"/>
          <a:stretch/>
        </p:blipFill>
        <p:spPr>
          <a:xfrm>
            <a:off x="6858000" y="214200"/>
            <a:ext cx="20494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1" descr="Картинка 9 из 5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149480"/>
            <a:ext cx="2249640" cy="3136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3" descr="Картинка 6 из 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49640" y="1268280"/>
            <a:ext cx="5994360" cy="4683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1"/>
          <p:cNvSpPr/>
          <p:nvPr/>
        </p:nvSpPr>
        <p:spPr>
          <a:xfrm>
            <a:off x="2513160" y="5979960"/>
            <a:ext cx="60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йвазовский Иван Константинович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«Девятый вал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1FC1-996B-48EA-AA6E-B7FA672CE4F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1" descr="Картинка 36 из 446"/>
          <p:cNvPicPr/>
          <p:nvPr/>
        </p:nvPicPr>
        <p:blipFill>
          <a:blip r:embed="rId1"/>
          <a:stretch/>
        </p:blipFill>
        <p:spPr>
          <a:xfrm>
            <a:off x="611280" y="1341360"/>
            <a:ext cx="4186080" cy="51847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3" descr="Андрей Рублев"/>
          <p:cNvPicPr/>
          <p:nvPr/>
        </p:nvPicPr>
        <p:blipFill>
          <a:blip r:embed="rId2"/>
          <a:stretch/>
        </p:blipFill>
        <p:spPr>
          <a:xfrm>
            <a:off x="5580000" y="1484280"/>
            <a:ext cx="3279960" cy="40338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5796000" y="602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ндрей Рубл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1" name="Picture 1" descr="Картинка 5 из 133"/>
          <p:cNvPicPr/>
          <p:nvPr/>
        </p:nvPicPr>
        <p:blipFill>
          <a:blip r:embed="rId1"/>
          <a:stretch/>
        </p:blipFill>
        <p:spPr>
          <a:xfrm>
            <a:off x="3564000" y="1628640"/>
            <a:ext cx="2411280" cy="3016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i?id=49560045-07"/>
          <p:cNvPicPr/>
          <p:nvPr/>
        </p:nvPicPr>
        <p:blipFill>
          <a:blip r:embed="rId2"/>
          <a:stretch/>
        </p:blipFill>
        <p:spPr>
          <a:xfrm>
            <a:off x="755640" y="1700280"/>
            <a:ext cx="2171880" cy="3071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i?id=87058394-00"/>
          <p:cNvPicPr/>
          <p:nvPr/>
        </p:nvPicPr>
        <p:blipFill>
          <a:blip r:embed="rId3"/>
          <a:stretch/>
        </p:blipFill>
        <p:spPr>
          <a:xfrm>
            <a:off x="6659640" y="1700280"/>
            <a:ext cx="2066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5" name="Picture 1" descr="Картинка 5 из 133"/>
          <p:cNvPicPr/>
          <p:nvPr/>
        </p:nvPicPr>
        <p:blipFill>
          <a:blip r:embed="rId1"/>
          <a:stretch/>
        </p:blipFill>
        <p:spPr>
          <a:xfrm>
            <a:off x="3500280" y="1214280"/>
            <a:ext cx="2411640" cy="3016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i?id=49560045-07"/>
          <p:cNvPicPr/>
          <p:nvPr/>
        </p:nvPicPr>
        <p:blipFill>
          <a:blip r:embed="rId2"/>
          <a:stretch/>
        </p:blipFill>
        <p:spPr>
          <a:xfrm>
            <a:off x="500040" y="1214280"/>
            <a:ext cx="2171880" cy="3071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i?id=87058394-00"/>
          <p:cNvPicPr/>
          <p:nvPr/>
        </p:nvPicPr>
        <p:blipFill>
          <a:blip r:embed="rId3"/>
          <a:stretch/>
        </p:blipFill>
        <p:spPr>
          <a:xfrm>
            <a:off x="6715080" y="1214280"/>
            <a:ext cx="2067120" cy="3000600"/>
          </a:xfrm>
          <a:prstGeom prst="rect">
            <a:avLst/>
          </a:prstGeom>
          <a:ln w="0">
            <a:noFill/>
          </a:ln>
        </p:spPr>
      </p:pic>
      <p:sp>
        <p:nvSpPr>
          <p:cNvPr id="258" name="Заголовок 1"/>
          <p:cNvSpPr/>
          <p:nvPr/>
        </p:nvSpPr>
        <p:spPr>
          <a:xfrm>
            <a:off x="3571920" y="4857840"/>
            <a:ext cx="2295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лексей Архипович  Лео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Заголовок 1"/>
          <p:cNvSpPr/>
          <p:nvPr/>
        </p:nvSpPr>
        <p:spPr>
          <a:xfrm>
            <a:off x="6572160" y="4857840"/>
            <a:ext cx="235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Валентина Владимировна Терешк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539640" y="4869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Юри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лексеевич Гагар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340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1" descr="Картинка 2 из 43"/>
          <p:cNvPicPr/>
          <p:nvPr/>
        </p:nvPicPr>
        <p:blipFill>
          <a:blip r:embed="rId1"/>
          <a:stretch/>
        </p:blipFill>
        <p:spPr>
          <a:xfrm>
            <a:off x="395280" y="1268280"/>
            <a:ext cx="2500200" cy="3413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Картинка 10 из 888"/>
          <p:cNvPicPr/>
          <p:nvPr/>
        </p:nvPicPr>
        <p:blipFill>
          <a:blip r:embed="rId2"/>
          <a:stretch/>
        </p:blipFill>
        <p:spPr>
          <a:xfrm>
            <a:off x="2987640" y="1700280"/>
            <a:ext cx="2722680" cy="27860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4" descr="i?id=45630332-00"/>
          <p:cNvPicPr/>
          <p:nvPr/>
        </p:nvPicPr>
        <p:blipFill>
          <a:blip r:embed="rId3"/>
          <a:stretch/>
        </p:blipFill>
        <p:spPr>
          <a:xfrm>
            <a:off x="6602400" y="3141720"/>
            <a:ext cx="1909800" cy="27352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6" descr="ue_3"/>
          <p:cNvPicPr/>
          <p:nvPr/>
        </p:nvPicPr>
        <p:blipFill>
          <a:blip r:embed="rId4"/>
          <a:stretch/>
        </p:blipFill>
        <p:spPr>
          <a:xfrm>
            <a:off x="5651640" y="0"/>
            <a:ext cx="3314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699760" cy="1170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182600" y="2098440"/>
            <a:ext cx="7461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духовный мир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культурные традиции и для чего они существую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16360" y="-360"/>
            <a:ext cx="282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Дата 3"/>
          <p:cNvSpPr/>
          <p:nvPr/>
        </p:nvSpPr>
        <p:spPr>
          <a:xfrm>
            <a:off x="457200" y="600084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1" descr="Картинка 2 из 43"/>
          <p:cNvPicPr/>
          <p:nvPr/>
        </p:nvPicPr>
        <p:blipFill>
          <a:blip r:embed="rId1"/>
          <a:stretch/>
        </p:blipFill>
        <p:spPr>
          <a:xfrm>
            <a:off x="395280" y="907920"/>
            <a:ext cx="2500200" cy="3413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Картинка 10 из 888"/>
          <p:cNvPicPr/>
          <p:nvPr/>
        </p:nvPicPr>
        <p:blipFill>
          <a:blip r:embed="rId2"/>
          <a:stretch/>
        </p:blipFill>
        <p:spPr>
          <a:xfrm>
            <a:off x="2987640" y="1413000"/>
            <a:ext cx="2722680" cy="27860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4" descr="i?id=45630332-00"/>
          <p:cNvPicPr/>
          <p:nvPr/>
        </p:nvPicPr>
        <p:blipFill>
          <a:blip r:embed="rId3"/>
          <a:stretch/>
        </p:blipFill>
        <p:spPr>
          <a:xfrm>
            <a:off x="6602400" y="3141720"/>
            <a:ext cx="1909800" cy="2735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Picture 6" descr="ue_3"/>
          <p:cNvPicPr/>
          <p:nvPr/>
        </p:nvPicPr>
        <p:blipFill>
          <a:blip r:embed="rId4"/>
          <a:stretch/>
        </p:blipFill>
        <p:spPr>
          <a:xfrm>
            <a:off x="5651640" y="0"/>
            <a:ext cx="3314520" cy="28576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1"/>
          <p:cNvSpPr/>
          <p:nvPr/>
        </p:nvSpPr>
        <p:spPr>
          <a:xfrm>
            <a:off x="266760" y="4498920"/>
            <a:ext cx="221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натолий Евгеньевич Карп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987640" y="422100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рина Роднина и Александр Зайц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641200" y="275904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вгений Устюг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6443640" y="611352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вгений Плющен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оссия – наша Роди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духовный мир челове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культурные традиции и для чего они существуют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A376-E4D6-4085-B2C3-1A743A1C14B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971640" y="0"/>
            <a:ext cx="7200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11280" y="476280"/>
            <a:ext cx="77040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Проведи интервью с родителями по вопросам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onotype Corsiva"/>
              </a:rPr>
              <a:t>Каких героев России они знают, в чем их заслуги перед Отечеством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onotype Corsiva"/>
              </a:rPr>
              <a:t>Каких русских писателей, художников, композиторов они знают, чем они знаменит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onotype Corsiva"/>
              </a:rPr>
              <a:t>Какие книги о нашей Родине они посоветовали бы тебе прочита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onotype Corsiva"/>
              </a:rPr>
              <a:t>Есть ли среди ваших родственников те, кто много сделал для Родины? Кто это, в чем их заслуги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2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Или найди материал об известном человеке (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по выбору). Подготовь рассказ о нем. Объясни, почему ты выбрал именно этого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D7E7-BC4B-49D0-AA3A-39A7BDDEAA6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Родина.wmv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9760" cy="6323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C:\Documents and Settings\library3\Рабочий стол\проект\И.А\Minin-i-Pozharskij-.bmp"/>
          <p:cNvPicPr/>
          <p:nvPr/>
        </p:nvPicPr>
        <p:blipFill>
          <a:blip r:embed="rId2"/>
          <a:stretch/>
        </p:blipFill>
        <p:spPr>
          <a:xfrm>
            <a:off x="2351160" y="214200"/>
            <a:ext cx="450684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Как стать таким, чтобы Родина гордилась тобой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296560" cy="142740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3"/>
          <p:cNvSpPr/>
          <p:nvPr/>
        </p:nvSpPr>
        <p:spPr>
          <a:xfrm>
            <a:off x="3571920" y="3500280"/>
            <a:ext cx="2143080" cy="986040"/>
          </a:xfrm>
          <a:prstGeom prst="ellipse">
            <a:avLst/>
          </a:prstGeom>
          <a:solidFill>
            <a:srgbClr val="cc3300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3714840" y="1928880"/>
            <a:ext cx="1643040" cy="857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а-друзь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5"/>
          <p:cNvSpPr/>
          <p:nvPr/>
        </p:nvSpPr>
        <p:spPr>
          <a:xfrm>
            <a:off x="3714840" y="4929120"/>
            <a:ext cx="1643040" cy="928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а-вра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6"/>
          <p:cNvSpPr/>
          <p:nvPr/>
        </p:nvSpPr>
        <p:spPr>
          <a:xfrm>
            <a:off x="1143000" y="2214720"/>
            <a:ext cx="1785960" cy="1071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кругленный прямоугольник 7"/>
          <p:cNvSpPr/>
          <p:nvPr/>
        </p:nvSpPr>
        <p:spPr>
          <a:xfrm>
            <a:off x="1000080" y="4214880"/>
            <a:ext cx="1857600" cy="107316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форизм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овиц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Скругленный прямоугольник 8"/>
          <p:cNvSpPr/>
          <p:nvPr/>
        </p:nvSpPr>
        <p:spPr>
          <a:xfrm>
            <a:off x="6286680" y="2143080"/>
            <a:ext cx="185724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нездо сл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Скругленный прямоугольник 9"/>
          <p:cNvSpPr/>
          <p:nvPr/>
        </p:nvSpPr>
        <p:spPr>
          <a:xfrm>
            <a:off x="6286680" y="4214880"/>
            <a:ext cx="1928520" cy="9475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ложе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рагменты тек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4572000" y="2852280"/>
            <a:ext cx="0" cy="576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1"/>
          <p:cNvSpPr/>
          <p:nvPr/>
        </p:nvSpPr>
        <p:spPr>
          <a:xfrm flipH="1" flipV="1">
            <a:off x="2843280" y="3284280"/>
            <a:ext cx="1008000" cy="431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5508720" y="3141720"/>
            <a:ext cx="86364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3"/>
          <p:cNvSpPr/>
          <p:nvPr/>
        </p:nvSpPr>
        <p:spPr>
          <a:xfrm flipH="1">
            <a:off x="2843280" y="4149720"/>
            <a:ext cx="720720" cy="57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5580000" y="4221000"/>
            <a:ext cx="64764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4572000" y="4581360"/>
            <a:ext cx="0" cy="287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нездо слов «Родина»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ели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ься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й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я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венники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ч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м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во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ачальник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нький, по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ться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ый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ие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ство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ственский,  за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ие, на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на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ый,  при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вый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ка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ловная, за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ш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A36B-C81B-4BD3-9B90-6EBFDFC20FF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1187280" y="1773360"/>
            <a:ext cx="7488360" cy="4679640"/>
            <a:chOff x="1187280" y="1773360"/>
            <a:chExt cx="7488360" cy="4679640"/>
          </a:xfrm>
        </p:grpSpPr>
        <p:sp>
          <p:nvSpPr>
            <p:cNvPr id="126" name="Rectangle 3"/>
            <p:cNvSpPr/>
            <p:nvPr/>
          </p:nvSpPr>
          <p:spPr>
            <a:xfrm>
              <a:off x="1187280" y="1773360"/>
              <a:ext cx="7488360" cy="155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4"/>
            <p:cNvSpPr/>
            <p:nvPr/>
          </p:nvSpPr>
          <p:spPr>
            <a:xfrm>
              <a:off x="1187280" y="3342600"/>
              <a:ext cx="7488360" cy="1541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5"/>
            <p:cNvSpPr/>
            <p:nvPr/>
          </p:nvSpPr>
          <p:spPr>
            <a:xfrm>
              <a:off x="1187280" y="4893480"/>
              <a:ext cx="7488360" cy="1559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29" name="Picture 6" descr="coa1882"/>
          <p:cNvPicPr/>
          <p:nvPr/>
        </p:nvPicPr>
        <p:blipFill>
          <a:blip r:embed="rId1"/>
          <a:stretch/>
        </p:blipFill>
        <p:spPr>
          <a:xfrm>
            <a:off x="7518240" y="1557360"/>
            <a:ext cx="1249560" cy="13669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130" name="Picture 7" descr="rusgerb3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812000" y="5373720"/>
            <a:ext cx="1079640" cy="1295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1" name="Picture 8" descr="moscow2"/>
          <p:cNvPicPr/>
          <p:nvPr/>
        </p:nvPicPr>
        <p:blipFill>
          <a:blip r:embed="rId3"/>
          <a:stretch/>
        </p:blipFill>
        <p:spPr>
          <a:xfrm>
            <a:off x="539640" y="1484280"/>
            <a:ext cx="1330560" cy="16574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9"/>
          <p:cNvSpPr txBox="1"/>
          <p:nvPr/>
        </p:nvSpPr>
        <p:spPr>
          <a:xfrm>
            <a:off x="3203640" y="2421000"/>
            <a:ext cx="2663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"/>
              </a:rPr>
              <a:t>ГЕРБ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3" name="WordArt 10"/>
          <p:cNvSpPr txBox="1"/>
          <p:nvPr/>
        </p:nvSpPr>
        <p:spPr>
          <a:xfrm>
            <a:off x="3203640" y="4005360"/>
            <a:ext cx="2663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"/>
              </a:rPr>
              <a:t>ФЛАГ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WordArt 11"/>
          <p:cNvSpPr txBox="1"/>
          <p:nvPr/>
        </p:nvSpPr>
        <p:spPr>
          <a:xfrm>
            <a:off x="3203640" y="5661000"/>
            <a:ext cx="26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"/>
              </a:rPr>
              <a:t>ГИМН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5" name="Picture 12" descr="ussr"/>
          <p:cNvPicPr/>
          <p:nvPr/>
        </p:nvPicPr>
        <p:blipFill>
          <a:blip r:embed="rId4"/>
          <a:stretch/>
        </p:blipFill>
        <p:spPr>
          <a:xfrm>
            <a:off x="466560" y="5157720"/>
            <a:ext cx="1325880" cy="1366920"/>
          </a:xfrm>
          <a:prstGeom prst="rect">
            <a:avLst/>
          </a:prstGeom>
          <a:ln w="76320">
            <a:solidFill>
              <a:srgbClr val="ffcf01"/>
            </a:solidFill>
            <a:miter/>
          </a:ln>
        </p:spPr>
      </p:pic>
      <p:sp>
        <p:nvSpPr>
          <p:cNvPr id="136" name="Rectangle 14"/>
          <p:cNvSpPr/>
          <p:nvPr/>
        </p:nvSpPr>
        <p:spPr>
          <a:xfrm>
            <a:off x="395280" y="2570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Государственные символы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C8FE-27B7-432A-97A9-192CC563033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rusgerb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00040" y="1214280"/>
            <a:ext cx="4443480" cy="5327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9" name="Rectangle 6"/>
          <p:cNvSpPr/>
          <p:nvPr/>
        </p:nvSpPr>
        <p:spPr>
          <a:xfrm>
            <a:off x="5786280" y="1643040"/>
            <a:ext cx="2808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«Двуглавый орел с гербом Москвы на груд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имволизирует преемственность со славным историческим прошлым, величие государ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763640" y="189000"/>
            <a:ext cx="592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Современный гер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wbr"/>
          <p:cNvPicPr/>
          <p:nvPr/>
        </p:nvPicPr>
        <p:blipFill>
          <a:blip r:embed="rId1"/>
          <a:stretch/>
        </p:blipFill>
        <p:spPr>
          <a:xfrm>
            <a:off x="1857240" y="1071720"/>
            <a:ext cx="5786640" cy="38574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7"/>
          <p:cNvSpPr txBox="1"/>
          <p:nvPr/>
        </p:nvSpPr>
        <p:spPr>
          <a:xfrm>
            <a:off x="250920" y="189000"/>
            <a:ext cx="122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991 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28760" y="5072040"/>
            <a:ext cx="83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ременный флаг Российской Федерации  восходит к флагу Пет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нимается на государственных зданиях и в дни государственных праздник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1763640" y="189000"/>
            <a:ext cx="59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История флаг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712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Значение цветов флага России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белый цвет означает мир, чистоту, совершенств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синий – цвет веры и верности, постоянст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красный цвет символизирует энергию, силу, кровь, пролитую за Отечеств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 этому флагу и стали повсеместно узнавать мощное Российское государство.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Дата 3"/>
          <p:cNvSpPr/>
          <p:nvPr/>
        </p:nvSpPr>
        <p:spPr>
          <a:xfrm>
            <a:off x="428760" y="6072120"/>
            <a:ext cx="2133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Шатилова_Кононова</dc:creator>
  <dc:description/>
  <dc:language>en-US</dc:language>
  <cp:lastModifiedBy>ЛАРИСА</cp:lastModifiedBy>
  <cp:lastPrinted>1997-01-19T19:09:28Z</cp:lastPrinted>
  <dcterms:modified xsi:type="dcterms:W3CDTF">2012-07-24T13:11:42Z</dcterms:modified>
  <cp:revision>116</cp:revision>
  <dc:subject>Россия- наша Родина</dc:subject>
  <dc:title>Материалы для 1 урока</dc:title>
</cp:coreProperties>
</file>